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1D3-A87D-42F4-8C02-4B26540C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F0D-48A5-42B2-ABA1-435FE978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D11-4C6A-4CC5-9861-800A01B8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9B4-EE09-4B27-AB8A-0A5338EF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500-15C4-4D97-B6F3-92156BD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8E7-B4C0-44B0-AFDB-05538842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6D0-7F69-49FE-836C-6AD7155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D6D-F9F7-4B41-AB54-569A881A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78A-D9EB-4B47-B47A-565B7D0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B5F-545D-433B-947A-A29A14D2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A31-CF11-4F97-8F97-8015F77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4FD-E653-48AB-A8FF-62E7563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BB44-FDA6-423F-87A8-5D9F6D1D0D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АКЦИЯ ПОСВЯЩЁННАЯ ВСЕМИРНОМУ ДНЮ ОХРАНЫ ТРУД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" name="Picture 8" descr="Новый рисунок"/>
          <p:cNvPicPr/>
          <p:nvPr/>
        </p:nvPicPr>
        <p:blipFill>
          <a:blip r:embed="rId1"/>
          <a:stretch/>
        </p:blipFill>
        <p:spPr>
          <a:xfrm>
            <a:off x="1763640" y="1341360"/>
            <a:ext cx="5545080" cy="3092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324000" y="45601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РАНИЕ С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БОТНИКАМИ  ОРГАНИЗАЦИЙ ТРУБЧЕВСКОГО МУНИЦИПАЛЬНОГО РАЙОНА С   УЧАСТИЕМ РУКОВОДИТЕЕЙ И СЕЦИАЛИС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МЕСЯЧНИК ПО ОХРАНЕ ТРУДА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4" descr="&amp;Ucy;&amp;Fcy;&amp;Scy;&amp;Kcy;&amp;Ncy; &amp;Rcy;&amp;ocy;&amp;scy;&amp;scy;&amp;icy;&amp;icy; &amp;pcy;&amp;ocy; &amp;Bcy;&amp;rcy;&amp;yacy;&amp;ncy;&amp;scy;&amp;kcy;&amp;ocy;&amp;jcy; &amp;ocy;&amp;bcy;&amp;lcy;&amp;acy;&amp;scy;&amp;tcy;&amp;icy; &amp;Vcy;&amp;iecy;&amp;rcy;&amp;scy;&amp;icy;&amp;yacy; &amp;dcy;&amp;lcy;&amp;yacy; &amp;pcy;&amp;iecy;&amp;chcy;&amp;acy;&amp;tcy;&amp;icy; &amp;Tcy;&amp;rcy;&amp;ucy;&amp;bcy;&amp;chcy;&amp;iecy;&amp;vcy;&amp;scy;&amp;kcy; &amp;bcy;&amp;iecy;&amp;zcy; &amp;ncy;&amp;acy;&amp;rcy;&amp;kcy;&amp;ocy;&amp;tcy;&amp;icy;&amp;kcy;&amp;ocy;&amp;vcy;"/>
          <p:cNvPicPr/>
          <p:nvPr/>
        </p:nvPicPr>
        <p:blipFill>
          <a:blip r:embed="rId1"/>
          <a:stretch/>
        </p:blipFill>
        <p:spPr>
          <a:xfrm>
            <a:off x="2195640" y="15573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47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332000" y="4653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Arial"/>
              </a:rPr>
              <a:t>- БЕСЕДЫ, ПОСВЯЩЁННЫЕ ВСЕМИРНОМУ ДНЮ ОХРАН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ЕМИНАР – СОВЕЩАНИЕ В ОРГАНИЗАЦИЯХ РАЙО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Новый рисунок"/>
          <p:cNvPicPr/>
          <p:nvPr/>
        </p:nvPicPr>
        <p:blipFill>
          <a:blip r:embed="rId1"/>
          <a:stretch/>
        </p:blipFill>
        <p:spPr>
          <a:xfrm>
            <a:off x="1547640" y="1773360"/>
            <a:ext cx="4969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ОБНОВЛЕНИЕ УГОЛКА ПО ОХРАНЕ ТРУДА В ОРГАНИЗАЦИЯХ ТРУБЧЕВСКОГО МУНИЦИПАЛЬНОГО РАЙОНА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4" descr="DSC_0089"/>
          <p:cNvPicPr/>
          <p:nvPr/>
        </p:nvPicPr>
        <p:blipFill>
          <a:blip r:embed="rId1"/>
          <a:stretch/>
        </p:blipFill>
        <p:spPr>
          <a:xfrm>
            <a:off x="395280" y="1125360"/>
            <a:ext cx="4129200" cy="323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SC_0091"/>
          <p:cNvPicPr/>
          <p:nvPr/>
        </p:nvPicPr>
        <p:blipFill>
          <a:blip r:embed="rId2"/>
          <a:stretch/>
        </p:blipFill>
        <p:spPr>
          <a:xfrm>
            <a:off x="4500720" y="1125360"/>
            <a:ext cx="3600360" cy="325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DSC_0094"/>
          <p:cNvPicPr/>
          <p:nvPr/>
        </p:nvPicPr>
        <p:blipFill>
          <a:blip r:embed="rId3"/>
          <a:stretch/>
        </p:blipFill>
        <p:spPr>
          <a:xfrm>
            <a:off x="611280" y="4491000"/>
            <a:ext cx="3240000" cy="2367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24360" y="4869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дел образования администрации Трубчевского муниципальн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7021440" y="-1251000"/>
            <a:ext cx="18337320" cy="12241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971640" y="616572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бинет по охране труда ОАО «Моноли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re296hQRUECcFe5MzjoqvF_z9j88UJxJML4miwgn8chVoMzPetOwcY0G1boowzhxZDb6KeHVLxyEL5-oekOAA%3D%3D?uid=0&amp;filename=DSC0306jpg&amp;disposition=inline&amp;hash=&amp;limit=0&amp;content_type=image%2Fjpeg&amp;tknv=v2&amp;size=S&amp;crop=0"/>
          <p:cNvPicPr/>
          <p:nvPr/>
        </p:nvPicPr>
        <p:blipFill>
          <a:blip r:embed="rId1"/>
          <a:stretch/>
        </p:blipFill>
        <p:spPr>
          <a:xfrm>
            <a:off x="826920" y="1844640"/>
            <a:ext cx="2737080" cy="1825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-VlIz0hshWprtz1r_Lhlls4z4UGGPcDeNtUNcDx35GHcTLiM2wpRGXbhxHW5PGHY3EvIWguVL6G1g2RTAoPw3w%3D%3D?uid=0&amp;filename=DSC0309jpg&amp;disposition=inline&amp;hash=&amp;limit=0&amp;content_type=image%2Fjpeg&amp;tknv=v2&amp;size=S&amp;crop=0"/>
          <p:cNvPicPr/>
          <p:nvPr/>
        </p:nvPicPr>
        <p:blipFill>
          <a:blip r:embed="rId2"/>
          <a:stretch/>
        </p:blipFill>
        <p:spPr>
          <a:xfrm>
            <a:off x="4643280" y="765000"/>
            <a:ext cx="2808360" cy="18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268360" y="422100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бинет для проведения видеоинструктажей по Охране труда ОАО «Моноли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06:12:02Z</dcterms:created>
  <dc:creator>Ohtrud</dc:creator>
  <dc:description/>
  <dc:language>en-US</dc:language>
  <cp:lastModifiedBy>User</cp:lastModifiedBy>
  <dcterms:modified xsi:type="dcterms:W3CDTF">2015-05-18T07:18:51Z</dcterms:modified>
  <cp:revision>5</cp:revision>
  <dc:subject/>
  <dc:title>АКЦИЯ ПОСВЯЩЁННАЯ ВСЕМИРНОМУ ДНЮ ОХРАНЫ ТРУДА</dc:title>
</cp:coreProperties>
</file>