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C44-D7AE-4928-A477-153E4978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162-A34D-41FE-8A59-26FFA41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5AF-BC38-4C86-BFD3-6ACCC8C7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AF0-ADD9-446E-AD15-94927FFD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ADB-388C-4834-9C79-355FAB43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9F05-386B-4B69-A0CB-E57F369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65E-F996-45CB-BD9E-A2F23B56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87EE-5EBD-4ACB-8B5A-E662C2C7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A056-A2F9-432D-8BE8-7B6BA970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43D-74B9-4472-91FA-46F8054F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A8F-5D95-4C3F-B422-74F9FA7B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9D2-5E86-4753-8023-93B88CC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A2B2-0E2E-4A68-9671-B6E3723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F951-5C77-4F8E-A6EE-0D80CAA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12B-1F14-42F5-A8BA-B6F08975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F469-4A8D-4B68-8D64-E00D1898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6D5-C58E-41A4-B123-2D5C2361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EBC-40D2-4D0E-B242-75819F4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2DA-B69A-452C-81CF-0DE17AB3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AF5-4319-4ABF-8729-AC1C433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815-C15C-497D-B4E1-AA19C50C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6C9-3EAD-4127-8DB1-B1C656A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79F-2648-4BED-96DC-9D73546C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9B4-4197-4A4F-9AAB-0AA51CC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BE5A-6082-4CA1-8E89-DC7E56B374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BD7-44DC-4F79-8D59-F139DF4B91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Информационная памятка по охране труда для работников и работодателе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ohrana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5454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Исключени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От прохождения медосмотра освобождаются в случае отсутствия на рабочем месте производственных факторов и работ, указанных в соответствующих перечня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воя трудоспособность зависит от твоего здоровья, а возможность возникновения опасной для жизни и здоровья ситуации на производстве - от твоей труд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Работник обязан соблюдать требования охраны труд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55920" y="1989000"/>
            <a:ext cx="291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струкция по охране труда содержи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нструкция по охране труда содержи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занимайся самодеятельностью: выполняй только ту работу, которая входит в твои обязанности и поручена тебе, не расширяй самовольно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ускоряй самовольно производственный процесс в ущерб своей безопас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именяй только исправные средства индивидуальной защиты (СИЗ), оборудование и инструмен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спользуй оборудование и инструмент только для тех работ, для которых они предназначены, строго в соответствии с инструкциями по их эксплуат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допускай на свое рабочее место посторонних лиц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поручай свою работу необученным и посторонним лиц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облюдай правила перемещения на территории организации, пользуйся только установленными проход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загромождай проходы к своему рабочему месту, содержи его в чистоте и поряд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Работник обязан правильно применять средства индивидуальной и коллективной защит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685960" cy="3456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48000" y="2341800"/>
            <a:ext cx="4451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Если твоя профессия или должность озвучена в типовых нормах выдачи СИЗ, то тебе полагается бесплатная их вы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52520" y="23630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датель информирует тебя о полагающихся тебе С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датель выдает тебе СИЗ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З соответствуют твоему полу, росту, размерам, характер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условиям выполняем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Если тебя не обеспечили СИЗ, ты вправе отказаться от выполнения трудовых обязанностей, а работодатель обязан оплатить прост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1106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550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Твой работодатель обеспечивает проведение инструктажа о правилах применения, о способах проверки исправности СИЗ, применение которых требует практических навыков, организует тренировки по их применению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106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016360" cy="1168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257112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ы правильно применяешь СИЗ, перед началом работы проверяешь их состояние, не пользуешься неисправными, с истекшим сроком годности средствами защи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00" y="2677320"/>
            <a:ext cx="654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случае неисправности СИЗ необходимо известить об этом работода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случае неисправности С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обходимо известить об этом работодател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ботник обязан немедленно извещать руководителя о любой ситуации, угрожающей жизни и здоровью людей, о каждом несчастном случае, произошедшем на производстве, или об ухудшении состояния своего здоров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ботник обязан соблюдать правила внутреннего трудового распорядка, трудовую дисципли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блюдай режимы труда и отдыха. Обязательно используй регламентированные перерывы в течение рабочего дня (смены) для восстановления своей работоспособности. Это позволит снизить невнимательность и рассеянность в работе, из-за которых увеличивается риск получения трав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1621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68360" y="4221000"/>
            <a:ext cx="547848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Да, работодатель обязан создать все условия для безопасного выполнения тобой работы. НО! Ты несешь такую же ответственность за поддержание этих условий. И твоя заинтересованность в этом больше, чем у работодателя, ведь на кону – именно твоя жизнь и твое здоровь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Всемирный день охраны труда"/>
          <p:cNvPicPr/>
          <p:nvPr/>
        </p:nvPicPr>
        <p:blipFill>
          <a:blip r:embed="rId1"/>
          <a:stretch/>
        </p:blipFill>
        <p:spPr>
          <a:xfrm>
            <a:off x="1187280" y="0"/>
            <a:ext cx="72741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vsemirnyj-den-ohrany-truda-humoraf-22" descr="Всемирный день охраны труда"/>
          <p:cNvPicPr/>
          <p:nvPr/>
        </p:nvPicPr>
        <p:blipFill>
          <a:blip r:embed="rId1"/>
          <a:stretch/>
        </p:blipFill>
        <p:spPr>
          <a:xfrm>
            <a:off x="2484360" y="333360"/>
            <a:ext cx="3983040" cy="56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Обстоятельства несчастных случаев одни и те же из года в год: 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не использовал страховочную привязь, засунул руку в работающий станок, коснулся рукой токоведущих частей под напряжением, не проверил присутствие посторонних лиц при выполнении опасной работы, употреблял алкоголь на рабочем месте и т.д.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Какие условие труда должен обеспечить на предприятии работодатель?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81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В случае несоблюдения элементарных требований охраны труда, которые можно в полной мере считать «заповедями» для работников: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ходи обу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людай трудовую дисципл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едуй инструкц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меняй С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удь вниматель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ходи медосмо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ЕХНИКА БЕЗОПАС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9612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ХОДИ ОБ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990800" cy="250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40000" y="2060640"/>
            <a:ext cx="70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ботник обязан проходить обучение безопасным методам и приемам выполнения работ и оказанию первой помощи пострадавшим на производстве, инструктаж по охране труда, стажировку на рабочем месте, проверку знаний требований охраны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3647880"/>
            <a:ext cx="6048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е только работодатель обязан обеспечить обучение по охране труда, но и работник обязан по законодательству его пройти. И неоднократно в течение своей трудовой деятельности. Не важно, кто ты по профессии: уборщик служебных помещений или инженер – пройди обучение по охране тру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Исключ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ботник может быть освобожден от инструктажа на рабочем месте, в случае, если работа не связана с эксплуатацией, обслуживанием, испытанием, наладкой и ремонтом оборудования, использованием инструмента, хранением и применением сырья и материал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ботнику могут не назначить стажировку в случае, если он принят на работу с безопасными условиями тру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57080" cy="147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9280" y="3858120"/>
            <a:ext cx="540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нание требований нормативных правовых актов – это фундамент твоей безопасности на рабочем мес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РОХОДИМЕДОСМО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ботник обязан проходить обязательные предварительные и периодические медицинские осмотры, другие обязательные медицинские осмотры, проходить внеочередные медицинские осмотры по направлению работодателя в случаях, предусмотренных законодательств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6571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Медосмотры проводятся при поступлении на работу и затем периодически в течение трудовой деятельности:</a:t>
            </a:r>
            <a:br>
              <a:rPr sz="1400"/>
            </a:b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      Как итог, своевременно будут проведены мероприятия для сохранения твоего здоровья, восстановления трудоспособности, предупреждения несчастных случаев на производстве.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варительный и периодический медосмот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т соответствие состояния твоего здоровья поручаемой рабо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вят заболевания, являющиеся медицинскими противопоказаниями для продолжения работы, на ранней стад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5560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237960" cy="3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37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4T06:14:11Z</dcterms:created>
  <dc:creator>Ohtrud</dc:creator>
  <dc:description/>
  <dc:language>en-US</dc:language>
  <cp:lastModifiedBy>Ohtrud</cp:lastModifiedBy>
  <dcterms:modified xsi:type="dcterms:W3CDTF">2022-04-04T06:55:48Z</dcterms:modified>
  <cp:revision>4</cp:revision>
  <dc:subject/>
  <dc:title>Информационная памятка по охране труда для работников и работодателей</dc:title>
</cp:coreProperties>
</file>